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3DB-0121-4E5A-B3A7-AA29FB83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E34-CEEE-4871-BEF4-1B21790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A11-BDF5-45C8-982F-98AB7D38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244-6960-4B47-8F77-6EDEEA8D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E2F52-DF8E-469A-A33D-FAD57100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BF051-ED25-463B-9C74-1C5E0D9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375B6-6CD1-4620-81D2-5200010E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D3A24-1B37-4EEA-BFA0-D912AE7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786DA-5600-41F5-9972-A299221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69EBA-09AA-483F-B9B0-4C4DAE83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3C129-5B0D-4993-83DF-3E4F5F9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AA6-36A6-47BB-9FF4-3B96CBF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04DD9-4588-4561-A532-A79A62CD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E285D-896E-48D4-B82B-4E5D057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4920A-2A1E-4479-987E-D864B2BB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F1697-5ED9-432C-BAEC-0DFC7BDF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2CA7-AE1F-4A3B-9250-3D3CDAA6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F16-7179-4EDE-AA33-12218244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1D1-7B38-4C4D-AFA7-77B39921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7B9-EE50-41BA-9D5C-44BEE81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4CE-6445-4885-A110-09953200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7FB-8E08-4BAE-90CF-5743FD0B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375-A424-41FD-8A71-895465F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D58-F0A1-4BA9-93B7-119BFC57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C5CF-60C9-478B-8AAD-62073503F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269-AEC1-4F60-8C67-521D51F17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rama K-W-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3860640"/>
          <a:ext cx="6400800" cy="1752480"/>
        </p:xfrm>
        <a:graphic>
          <a:graphicData uri="http://schemas.openxmlformats.org/drawingml/2006/table">
            <a:tbl>
              <a:tblPr/>
              <a:tblGrid>
                <a:gridCol w="1996920"/>
                <a:gridCol w="1968480"/>
                <a:gridCol w="2435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ştiţi despre dato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484280"/>
          <a:ext cx="8229600" cy="5267520"/>
        </p:xfrm>
        <a:graphic>
          <a:graphicData uri="http://schemas.openxmlformats.org/drawingml/2006/table">
            <a:tbl>
              <a:tblPr/>
              <a:tblGrid>
                <a:gridCol w="2566800"/>
                <a:gridCol w="2532240"/>
                <a:gridCol w="313056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obliga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cine am obligaţi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achită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agenţii economici ,faţă de alte societăţi ,faţă st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el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deductibile, nedeductibile)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dispunem de fond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 diferite metode(banca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creanţ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57360"/>
          <a:ext cx="8229600" cy="488628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dreptu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cine am dreptur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sting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i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ase feluri (imobilizate, comerciale, fiscale, etc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d se încasează creanţe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sala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5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imeşte ca urmare a muncii dep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e formează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cât rămân eu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i datorez reţineril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u de baza plus forma de salarizare plus sporuri, adaosuri, îndemnizaţi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salariul ne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lui,asigurărilo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impozite şi tax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029120"/>
        </p:xfrm>
        <a:graphic>
          <a:graphicData uri="http://schemas.openxmlformats.org/drawingml/2006/table">
            <a:tbl>
              <a:tblPr/>
              <a:tblGrid>
                <a:gridCol w="2567160"/>
                <a:gridCol w="2531880"/>
                <a:gridCol w="31305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buie plătite statului sau altor institu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t trebuie să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trebuie să le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stă scutiri sau înlesniri la plata acestor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tru impozit: 16%,pentru TVA:19%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n momentul când platim salarii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3:42Z</dcterms:created>
  <dc:creator>acer</dc:creator>
  <dc:description/>
  <dc:language>en-US</dc:language>
  <cp:lastModifiedBy>KTECH</cp:lastModifiedBy>
  <dcterms:modified xsi:type="dcterms:W3CDTF">2009-10-20T20:16:51Z</dcterms:modified>
  <cp:revision>6</cp:revision>
  <dc:subject/>
  <dc:title>Diagrama K-W-L</dc:title>
</cp:coreProperties>
</file>