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DFA-B0EE-4F26-A922-3F6CCCDD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B3A-9E22-4A0A-8466-7486B03C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610-9F86-4B7B-8FC8-8E6E7C16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EF1-50FD-4C35-B218-08F89AC6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CB9E6-40D6-4A14-9B26-9AF2B09A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AD442-9DAB-4B8D-A3A6-EE839C69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823D1-A2FD-4AA0-A965-D5D8817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13E6B-C6F8-4B18-B30E-3A2C28E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DE230-BC76-44C7-BADA-30F698E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A611-3B36-4EDE-94E9-3BFBEADF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0EE82-2431-4C26-8612-5B311DA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57A-363E-4306-B035-53C5F3B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FA6C2-496D-41CD-917E-8B4753F6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8517C-7F71-4115-9B59-F071A8FD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68735-424D-4B15-BE71-40DFBD4A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32E7E-61E2-40DB-8E8E-D9525FE2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1849-8209-4936-AE92-1AD2C28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DB85-C133-4CF6-A885-A6E7989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D4B3-7E17-4AE0-BCE2-894D1A2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901-642A-4B5B-BDD3-B09272AF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DA1-6878-450E-901A-EE3FFE63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C8E-0C62-46B7-BCBE-8A6D1E42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225-559E-4C3D-875A-E40F81D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11F-A9CD-494C-A8EF-4E60E5A9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0D44-3CF7-4375-A8DA-F4BC07CBE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ADF9-D55D-4B69-B9AE-E84ECA332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rama K-W-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3860640"/>
          <a:ext cx="6400800" cy="1752480"/>
        </p:xfrm>
        <a:graphic>
          <a:graphicData uri="http://schemas.openxmlformats.org/drawingml/2006/table">
            <a:tbl>
              <a:tblPr/>
              <a:tblGrid>
                <a:gridCol w="1996920"/>
                <a:gridCol w="1968480"/>
                <a:gridCol w="2435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ştiţi despre dato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2566800"/>
                <a:gridCol w="2532240"/>
                <a:gridCol w="313056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cine am obligaţi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achită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agenţii economici ,faţă de alte societăţi ,faţă st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el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deductibile, nedeductibile)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dispunem de fond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 diferite metode(banca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creanţ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57360"/>
          <a:ext cx="8229600" cy="488628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dreptu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cine am dreptur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sting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i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ase feluri (imobilizate, comerciale, fiscale, etc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d se încasează creanţe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sala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5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imeşte ca urmare a muncii dep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e formează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ât rămân eu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i datorez reţineril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u de baza plus forma de salarizare plus sporuri, adaosuri, îndemnizaţi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salariul ne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lui,asigurărilo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impozite şi tax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029120"/>
        </p:xfrm>
        <a:graphic>
          <a:graphicData uri="http://schemas.openxmlformats.org/drawingml/2006/table">
            <a:tbl>
              <a:tblPr/>
              <a:tblGrid>
                <a:gridCol w="2567160"/>
                <a:gridCol w="2531880"/>
                <a:gridCol w="31305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buie plătite statului sau altor institu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t trebuie să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trebuie să le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scutiri sau înlesniri la plata acestor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ru impozit: 16%,pentru TVA:19%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n momentul când platim salarii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3:42Z</dcterms:created>
  <dc:creator>acer</dc:creator>
  <dc:description/>
  <dc:language>en-US</dc:language>
  <cp:lastModifiedBy>KTECH</cp:lastModifiedBy>
  <dcterms:modified xsi:type="dcterms:W3CDTF">2009-10-20T20:16:51Z</dcterms:modified>
  <cp:revision>6</cp:revision>
  <dc:subject/>
  <dc:title>Diagrama K-W-L</dc:title>
</cp:coreProperties>
</file>