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4CA-EEA2-4F17-B548-E230FA63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23C-9491-4E83-B569-2B8D1AF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13D-953A-4329-A1E4-0A4D21E3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31D3-7BED-4FA9-9456-4E6BA281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A2CFA-0F46-470E-8FC2-5321EE54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507E1-908E-42C7-B0D6-A8796A18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27BA8-FA55-4DD8-9B7B-24470C08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F51A7-A3C2-4B20-8B88-F14FF7AE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94299-9B04-4926-BD9C-5C8C82FA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C8BB7-48B6-47A6-81E7-B4C1E346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48EC2-AC68-457E-83CE-21D64C5A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047-883F-46AB-9B48-F95FCDA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700E4-7813-40B7-94E0-A083244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785D3-A4FD-4AC2-914B-1C7863A1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83971-AE69-4BA9-8035-D6F7F20A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D3D57-A821-4371-A973-0801CC78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D27E3-A127-4076-84E7-497435C4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848-770E-4EFD-ACE0-23D16708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71E-4257-44B4-91BA-213C6AAD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E3C-EBBD-427C-BC5E-9A4304D3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75D-C615-4A97-9B42-D4E70DEC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C5A-FFC3-4D9E-9AEE-8CDFE7C6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569-CA54-4841-A02C-9BC090E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4D2-E6E2-46FD-96D4-294CC3B3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B0CA-F7BA-453D-A707-AB3EDBDEA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8009-EF77-4A4E-BE40-ED015A8DB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rama K-W-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3860640"/>
          <a:ext cx="6400800" cy="1752480"/>
        </p:xfrm>
        <a:graphic>
          <a:graphicData uri="http://schemas.openxmlformats.org/drawingml/2006/table">
            <a:tbl>
              <a:tblPr/>
              <a:tblGrid>
                <a:gridCol w="1996920"/>
                <a:gridCol w="1968480"/>
                <a:gridCol w="2435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ştiţi despre dato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484280"/>
          <a:ext cx="8229600" cy="5267520"/>
        </p:xfrm>
        <a:graphic>
          <a:graphicData uri="http://schemas.openxmlformats.org/drawingml/2006/table">
            <a:tbl>
              <a:tblPr/>
              <a:tblGrid>
                <a:gridCol w="2566800"/>
                <a:gridCol w="2532240"/>
                <a:gridCol w="3130560"/>
              </a:tblGrid>
              <a:tr h="117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obliga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cine am obligaţi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achită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agenţii economici ,faţă de alte societăţi ,faţă st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el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deductibile, nedeductibile)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dispunem de fondur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n diferite metode(banca etc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creanţ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57360"/>
          <a:ext cx="8229600" cy="488628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t dreptu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ţă de cine am drepturi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câte feluri sunt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şi cum se sting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ţă d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i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şase feluri (imobilizate, comerciale, fiscale, etc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d se încasează creanţe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salari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905120"/>
          <a:ext cx="8229600" cy="4754520"/>
        </p:xfrm>
        <a:graphic>
          <a:graphicData uri="http://schemas.openxmlformats.org/drawingml/2006/table">
            <a:tbl>
              <a:tblPr/>
              <a:tblGrid>
                <a:gridCol w="2568600"/>
                <a:gridCol w="2530440"/>
                <a:gridCol w="3130560"/>
              </a:tblGrid>
              <a:tr h="158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imeşte ca urmare a muncii dep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m se formează 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cât rămân eu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i datorez reţinerile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lariu de baza plus forma de salarizare plus sporuri, adaosuri, îndemnizaţi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salariul ne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lui,asigurărilo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e ştiţi despre impozite şi tax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029120"/>
        </p:xfrm>
        <a:graphic>
          <a:graphicData uri="http://schemas.openxmlformats.org/drawingml/2006/table">
            <a:tbl>
              <a:tblPr/>
              <a:tblGrid>
                <a:gridCol w="2567160"/>
                <a:gridCol w="2531880"/>
                <a:gridCol w="31305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VREAU SĂ ŞTIU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Ce …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00c600"/>
                          </a:solidFill>
                          <a:latin typeface="Verdana"/>
                        </a:rPr>
                        <a:t>ÎNVĂŢ/AM ÎNVĂŢ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ebuie plătite statului sau altor instituţ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t trebuie să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ând trebuie să le plătesc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istă scutiri sau înlesniri la plata acestora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tru impozit: 16%,pentru TVA:19%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În momentul când platim salariil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SzPct val="12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3:42Z</dcterms:created>
  <dc:creator>acer</dc:creator>
  <dc:description/>
  <dc:language>en-US</dc:language>
  <cp:lastModifiedBy>KTECH</cp:lastModifiedBy>
  <dcterms:modified xsi:type="dcterms:W3CDTF">2009-10-20T20:16:51Z</dcterms:modified>
  <cp:revision>6</cp:revision>
  <dc:subject/>
  <dc:title>Diagrama K-W-L</dc:title>
</cp:coreProperties>
</file>