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8470-8E82-45D9-8067-BD6A923F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27B0-6F5B-4C5A-A7BD-86402F75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49C-0B1E-45A4-A07C-BEB4798E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D51E-0DF0-494F-ADDE-F85BC3E9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99966-CFCF-4CA6-8975-83527C28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59900-C1BC-453F-AFAA-9A2A547E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FA543-AFAF-414E-88CE-65F0CD71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00874-405E-40DD-B5A5-DF27BD45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3F2E2-E219-467C-83B1-6EC3F19E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2454A-C954-4FCA-BD8B-D590E831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3CC61-B79A-467A-BCF4-A4AB44C4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4BAC-C490-4037-880B-7F62396A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1977F-9BA5-4171-AAC5-9034BC95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F3CDE-6CAB-4A9C-B725-25F9974F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37F7B-E0BB-4186-9406-4EB9BF79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965C6-E0A9-4575-9A8C-1D89E95D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E4DDB-0344-4AC7-AE7F-ED17AFF1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77A1-CA1B-4468-BB2F-9129B725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CF25-C280-4FA0-846E-0B33BC7B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12E2-72AD-4243-8B84-92715D0A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B16B-372A-4020-BF62-9469474B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82E1-ADA8-4604-8A73-652EDE9C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0739-B6D8-4650-A205-3D31854C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0AEB-DE96-420A-ABC4-38B11651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0162-95E2-4A26-9523-7BF4D31EBD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0CA0-8F1C-4F61-B212-45AC19B877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agrama K-W-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3860640"/>
          <a:ext cx="6400800" cy="1752480"/>
        </p:xfrm>
        <a:graphic>
          <a:graphicData uri="http://schemas.openxmlformats.org/drawingml/2006/table">
            <a:tbl>
              <a:tblPr/>
              <a:tblGrid>
                <a:gridCol w="1996920"/>
                <a:gridCol w="1968480"/>
                <a:gridCol w="24354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VREAU SĂ 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ÎNVĂŢ/AM ÎNVĂŢ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e 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ştiţi despre datorii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8360" y="1484280"/>
          <a:ext cx="8229600" cy="5267520"/>
        </p:xfrm>
        <a:graphic>
          <a:graphicData uri="http://schemas.openxmlformats.org/drawingml/2006/table">
            <a:tbl>
              <a:tblPr/>
              <a:tblGrid>
                <a:gridCol w="2566800"/>
                <a:gridCol w="2532240"/>
                <a:gridCol w="3130560"/>
              </a:tblGrid>
              <a:tr h="117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VREAU SĂ 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ÎNVĂŢ/AM ÎNVĂŢ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nt obligaţ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ţă de cine am obligaţii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 câte feluri sunt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ând şi cum se achită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</a:t>
                      </a: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ţă de agenţii economici ,faţă de alte societăţi ,faţă st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a</a:t>
                      </a: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elur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deductibile, nedeductibile)</a:t>
                      </a: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ând dispunem de fondur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n diferite metode(banca etc.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e ştiţi despre creanţ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4000" y="1557360"/>
          <a:ext cx="8229600" cy="4886280"/>
        </p:xfrm>
        <a:graphic>
          <a:graphicData uri="http://schemas.openxmlformats.org/drawingml/2006/table">
            <a:tbl>
              <a:tblPr/>
              <a:tblGrid>
                <a:gridCol w="2568600"/>
                <a:gridCol w="2530440"/>
                <a:gridCol w="3130560"/>
              </a:tblGrid>
              <a:tr h="163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VREAU SĂ 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ÎNVĂŢ/AM ÎNVĂŢ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nt dreptur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</a:t>
                      </a: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ţă de cine am drepturi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 câte feluri sunt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ând şi cum se sting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ţă de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ienti</a:t>
                      </a: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 </a:t>
                      </a: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şase feluri (imobilizate, comerciale, fiscale, etc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nd se încasează creanţel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e ştiţi despre salarii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905120"/>
          <a:ext cx="8229600" cy="4754520"/>
        </p:xfrm>
        <a:graphic>
          <a:graphicData uri="http://schemas.openxmlformats.org/drawingml/2006/table">
            <a:tbl>
              <a:tblPr/>
              <a:tblGrid>
                <a:gridCol w="2568600"/>
                <a:gridCol w="2530440"/>
                <a:gridCol w="3130560"/>
              </a:tblGrid>
              <a:tr h="158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VREAU SĂ 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ÎNVĂŢ/AM ÎNVĂŢ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 primeşte ca urmare a muncii depu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m se formează 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 cât rămân eu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i datorez reţinerile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ariu de baza plus forma de salarizare plus sporuri, adaosuri, îndemnizaţii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 salariul ne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ului,asigurărilo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e ştiţi despre impozite şi tax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905120"/>
          <a:ext cx="8229600" cy="4029120"/>
        </p:xfrm>
        <a:graphic>
          <a:graphicData uri="http://schemas.openxmlformats.org/drawingml/2006/table">
            <a:tbl>
              <a:tblPr/>
              <a:tblGrid>
                <a:gridCol w="2567160"/>
                <a:gridCol w="2531880"/>
                <a:gridCol w="3130560"/>
              </a:tblGrid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VREAU SĂ 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ÎNVĂŢ/AM ÎNVĂŢ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ebuie plătite statului sau altor instituţ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ât trebuie să plătesc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ând trebuie să le plătesc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istă scutiri sau înlesniri la plata acestora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ntru impozit: 16%,pentru TVA:19%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În momentul când platim salariil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1:03:42Z</dcterms:created>
  <dc:creator>acer</dc:creator>
  <dc:description/>
  <dc:language>en-US</dc:language>
  <cp:lastModifiedBy>KTECH</cp:lastModifiedBy>
  <dcterms:modified xsi:type="dcterms:W3CDTF">2009-10-20T20:16:51Z</dcterms:modified>
  <cp:revision>6</cp:revision>
  <dc:subject/>
  <dc:title>Diagrama K-W-L</dc:title>
</cp:coreProperties>
</file>