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A34-E0AE-480D-894F-7298BBBC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92B-6FB6-4E62-981B-2A05169F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1F6-F783-4386-A931-F3ACBC17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8B8-1EE5-4DFD-B31C-DA2C1B65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B03-3CB5-45C6-9E76-6DF57FC2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7AE8-3CDE-4B02-A33B-1DEFBB53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C6A-9EDF-4F75-B7AE-2F6C3B3D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B82-9649-4EC3-83FF-20010905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AE5-9A2E-4B5E-9F90-C7EA72B2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646-5780-4057-8124-4D719969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F6C-AA3C-49AE-A87D-16C6F3B5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0CA-F95C-46EE-8630-CDDEB0CB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866E-4C38-433B-8193-6F964CF69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BLE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educer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financiar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da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Penalita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a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7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7466"/>
                </a:solidFill>
                <a:latin typeface="Arial"/>
              </a:rPr>
              <a:t>Reduceri financiare la cr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7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7466"/>
                </a:solidFill>
                <a:latin typeface="Arial"/>
              </a:rPr>
              <a:t>Penalitati la cr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torii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reante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) Se înregistrează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dator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faţă de un furnizor de imobilizări pentru un mijloc de transport în valoare de 30.000 lei şi TVA, cumpărate cu factura nr 453/20.09.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tru grupa nou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ă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achită datoria din disponibilul la bancă (c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et la ordi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765/22.09.2009)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înainte de terme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beneficiind de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reducere financiară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– SCONT de 2%. Sold iniţial la disponibilul din cont: 55.000 l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Arial"/>
              </a:rPr>
              <a:t>Atenţ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: TVA aferent scontului se storn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) Se primeşte factura de telefon Fact.657/04.09.2009 în valoare de 500 lei +  TVA. Se înregistrează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atori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către furnizo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achită datoria în numerar cu chitanţa 2705/05.10.2009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u întârzie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plătind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penalităţ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2%. Sold iniţial la Casa în lei: 1.000 l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2d1f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upa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) Se înregistrează vânzarea către terţi a unui mijloc de transport cu Fact. 985/15.09.2009 în valoare de 20.000 lei + T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încasează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creanţ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în contul de disponibil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baza efectului comercial nr.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24/20.09.09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înainte de terme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acordând clientului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reducere financiară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– SCONT de 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Arial"/>
              </a:rPr>
              <a:t>Atenţ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: TVA aferent scontului se storn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) Se factureaza clientilor prestari servicii in valoare de 500 lei + TVA pe baza facturii nr 2134/16.09.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incaseaza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reant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prin cont,cu Dispoziţia de încasare 45/23.10.09 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u intarzie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impreuna cu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penalitat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de 2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7466"/>
            </a:gs>
            <a:gs pos="50000">
              <a:srgbClr val="dda927"/>
            </a:gs>
            <a:gs pos="100000">
              <a:srgbClr val="2a74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e inregistreaza o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atorie extern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prin cumpararea din import a materiei prime cu Factura 487/08.09.09 in valoare de 1.000 euro la cursul de 4,20 lei/e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achita datoria din cont cu Ordin de plată 78/28.09.09 in urmatoarele situati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sul valutei 4,50 lei/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sul valutei 4,10 lei/e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e inregistreaza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creanta extern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prin vanzarea la export de marfuri cu Factura 986/17.09.09 in valoare de 500 euro la cursul 4,20 lei/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entru grupa nouă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incaseaza creanta prin cont cu Dispoziţia de încasare 56/28.09.09 in urmatoarele situat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ursul valutei 4,50 lei/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ursul valutei 4,10 lei/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7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76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uri fol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n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z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b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lien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Furnizori de imobiliză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ijloace de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VA deductib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VA colec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nturi la bănci î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uri la b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nci în valut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sconturi obţ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diferenţe de curs valu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amenzi şi penal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vânzarea mărfur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prestări de servic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vânzarea active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poştale şi telecomunica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cu amenzi şi penal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din diferenţe de curs valu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privind sconturile acor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aterii pr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16:56:44Z</dcterms:created>
  <dc:creator>Mada</dc:creator>
  <dc:description/>
  <dc:language>en-US</dc:language>
  <cp:lastModifiedBy>acer</cp:lastModifiedBy>
  <dcterms:modified xsi:type="dcterms:W3CDTF">2009-10-20T15:17:37Z</dcterms:modified>
  <cp:revision>18</cp:revision>
  <dc:subject/>
  <dc:title>Slide 1</dc:title>
</cp:coreProperties>
</file>