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AEB-220D-4E34-8909-C11EA32C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876B-D4B6-4691-9B72-01252A07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3D3-C9A7-48D0-AFF5-4D9BC4AB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146-5499-49A0-A14B-114E2CE3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0D35-19E9-4661-9320-6FFB990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00D-3D35-47B0-B642-08C90DE3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E6D-1A5E-4FBF-A29C-EBB072D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AD7-6990-4091-B42E-6C6FDCB8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559-341C-45F2-BE3E-4805687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2B1E-25A1-41F3-868A-C9E24FB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80F-E52F-462C-AA35-C6CA407F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02F5-844F-4C11-8DA5-1614ECF5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099E-C65D-4F2D-BFDD-532BAEFD4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ducer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inanciar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enalita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Reduceri financiare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Penalitati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torii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reant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) Se înregistrează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dato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faţă de un furnizor de imobilizări pentru un mijloc de transport în valoare de 30.000 lei şi TVA, cumpărate cu factura nr 453/20.09.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ru grupa n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achită datoria din disponibilul la bancă (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et la ord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765/22.09.2009)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beneficiind de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Sold iniţial la disponibilul din cont: 55.000 l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primeşte factura de telefon Fact.657/04.09.2009 în valoare de 500 lei +  TVA. Se înregistrează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către furnizo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ă datoria în numerar cu chitanţa 2705/05.10.2009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întâ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plătind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ăţ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2%. Sold iniţial la Casa în lei: 1.000 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2d1f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) Se înregistrează vânzarea către terţi a unui mijloc de transport cu Fact. 985/15.09.2009 în valoare de 20.000 lei + T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încasează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ţ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în contul de disponibil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baza efectului comercial nr.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24/20.09.09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acordând clientului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factureaza clientilor prestari servicii in valoare de 500 lei + TVA pe baza facturii nr 2134/16.09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incaseaza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rean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ont,cu Dispoziţia de încasare 45/23.10.09 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inta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impreuna cu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a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de 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7466"/>
            </a:gs>
            <a:gs pos="50000">
              <a:srgbClr val="dda927"/>
            </a:gs>
            <a:gs pos="100000">
              <a:srgbClr val="2a74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e extern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umpararea din import a materiei prime cu Factura 487/08.09.09 in valoare de 1.000 euro la cursul de 4,2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a datoria din cont cu Ordin de plată 78/28.09.09 in urmatoarele situati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ta extern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rin vanzarea la export de marfuri cu Factura 986/17.09.09 in valoare de 500 euro la cursul 4,2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incaseaza creanta prin cont cu Dispoziţia de încasare 56/28.09.09 in urmatoarele situat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uri fol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n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b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lien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urnizori de imobiliză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ijloace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deductib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cole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turi la bănci î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uri la 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nci în valu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sconturi obţ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mărf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prestări de servic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activ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oştale şi telecomunica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cu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rivind sconturile acor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aterii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16:56:44Z</dcterms:created>
  <dc:creator>Mada</dc:creator>
  <dc:description/>
  <dc:language>en-US</dc:language>
  <cp:lastModifiedBy>acer</cp:lastModifiedBy>
  <dcterms:modified xsi:type="dcterms:W3CDTF">2009-10-20T15:17:37Z</dcterms:modified>
  <cp:revision>18</cp:revision>
  <dc:subject/>
  <dc:title>Slide 1</dc:title>
</cp:coreProperties>
</file>