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35D-6C2B-4DBA-949D-4B53A8B9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DC4-681A-4E89-B126-91DE367A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763-ADF6-4FCF-9E39-447BC9CF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A2D-054E-4E53-B672-E19F4F08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0B8-D7A2-4347-8B11-46823738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4DC-3911-4599-8E25-6DD7A899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2AC-FB62-4840-A96D-BF13B93E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272-BFF5-480F-8CAE-EEDC0F15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E8B-17B8-431C-BFAF-DB4F3C4B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82A-56BD-4327-9973-C01DD29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6F8-C8E2-4D03-A72D-CDD58E6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A61-FEEE-4552-8EB3-943EF15D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99C4-5126-4CA2-A7A1-6798C74F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BLE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ducer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inanciar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Penalita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Reduceri financiare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Penalitati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torii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reante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) Se înregistrează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dator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faţă de un furnizor de imobilizări pentru un mijloc de transport în valoare de 30.000 lei şi TVA, cumpărate cu factura nr 453/20.09.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tru grupa nou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ă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achită datoria din disponibilul la bancă (c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et la ordi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765/22.09.2009)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beneficiind de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Sold iniţial la disponibilul din cont: 55.000 l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primeşte factura de telefon Fact.657/04.09.2009 în valoare de 500 lei +  TVA. Se înregistrează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către furnizo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ă datoria în numerar cu chitanţa 2705/05.10.2009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întâ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plătind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ăţ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2%. Sold iniţial la Casa în lei: 1.000 l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2d1f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upa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) Se înregistrează vânzarea către terţi a unui mijloc de transport cu Fact. 985/15.09.2009 în valoare de 20.000 lei + T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încasează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ţ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în contul de disponibil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baza efectului comercial nr.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24/20.09.09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acordând clientului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factureaza clientilor prestari servicii in valoare de 500 lei + TVA pe baza facturii nr 2134/16.09.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incaseaza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rean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ont,cu Dispoziţia de încasare 45/23.10.09 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inta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impreuna cu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at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de 2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7466"/>
            </a:gs>
            <a:gs pos="50000">
              <a:srgbClr val="dda927"/>
            </a:gs>
            <a:gs pos="100000">
              <a:srgbClr val="2a74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e extern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umpararea din import a materiei prime cu Factura 487/08.09.09 in valoare de 1.000 euro la cursul de 4,2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a datoria din cont cu Ordin de plată 78/28.09.09 in urmatoarele situati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ta extern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prin vanzarea la export de marfuri cu Factura 986/17.09.09 in valoare de 500 euro la cursul 4,2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incaseaza creanta prin cont cu Dispoziţia de încasare 56/28.09.09 in urmatoarele situat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uri fol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n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b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lien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Furnizori de imobiliză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ijloace de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deductib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colec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nturi la bănci î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uri la b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nci în valut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sconturi obţ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mărf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prestări de servic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activ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oştale şi telecomunica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cu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rivind sconturile acor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aterii p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16:56:44Z</dcterms:created>
  <dc:creator>Mada</dc:creator>
  <dc:description/>
  <dc:language>en-US</dc:language>
  <cp:lastModifiedBy>acer</cp:lastModifiedBy>
  <dcterms:modified xsi:type="dcterms:W3CDTF">2009-10-20T15:17:37Z</dcterms:modified>
  <cp:revision>18</cp:revision>
  <dc:subject/>
  <dc:title>Slide 1</dc:title>
</cp:coreProperties>
</file>