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BA63-A917-4C2F-92AD-EDF9A304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3872-1953-4846-B481-91D103E2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E06B-E7B6-4940-9C36-5310DF40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C7D-C414-4E72-9AEE-08FA9DDF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F9D-828B-4B96-B171-BF82CF56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EC7-BEF7-42B3-809C-FD486560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6F3B-6803-4214-B4E3-22FC8086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5788-F454-4CBC-A03D-2A6D519E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F10-F6F0-458B-B330-F0221E5C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06C-0610-405F-BF66-D33AAB9B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14D-A3B3-41C7-B07C-33859B7B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387-6D70-4A0A-A48C-AA8EEEBD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6483-B44B-444B-9992-62DFFA6DD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PROBLEM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Reducer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financiar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da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Penalitat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l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da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a7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7466"/>
                </a:solidFill>
                <a:latin typeface="Arial"/>
              </a:rPr>
              <a:t>Reduceri financiare la cre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a7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7466"/>
                </a:solidFill>
                <a:latin typeface="Arial"/>
              </a:rPr>
              <a:t>Penalitati la cre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Datorii 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reante ex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) Se înregistrează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dator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faţă de un furnizor de imobilizări pentru un mijloc de transport în valoare de 30.000 lei şi TVA, cumpărate cu factura nr 453/20.09.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tru grupa nou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ă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achită datoria din disponibilul la bancă (cu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et la ordi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765/22.09.2009)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înainte de terme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, beneficiind de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reducere financiară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– SCONT de 2%. Sold iniţial la disponibilul din cont: 55.000 l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Arial"/>
              </a:rPr>
              <a:t>Atenţ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: TVA aferent scontului se storneaz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) Se primeşte factura de telefon Fact.657/04.09.2009 în valoare de 500 lei +  TVA. Se înregistrează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atori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către furnizo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achită datoria în numerar cu chitanţa 2705/05.10.2009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u întârzier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, plătind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penalităţ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2%. Sold iniţial la Casa în lei: 1.000 le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2d1f"/>
            </a:gs>
            <a:gs pos="100000">
              <a:srgbClr val="96ab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rupa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a) Se înregistrează vânzarea către terţi a unui mijloc de transport cu Fact. 985/15.09.2009 în valoare de 20.000 lei + TV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încasează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creanţ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în contul de disponibil 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baza efectului comercial nr.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24/20.09.09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înainte de termen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, acordând clientului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reducere financiară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– SCONT de 2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ffff"/>
                </a:solidFill>
                <a:latin typeface="Arial"/>
              </a:rPr>
              <a:t>Atenţ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: TVA aferent scontului se storneaz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) Se factureaza clientilor prestari servicii in valoare de 500 lei + TVA pe baza facturii nr 2134/16.09.200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incaseaza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reant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prin cont,cu Dispoziţia de încasare 45/23.10.09 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cu intarzier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, impreuna cu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penalitati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de 2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7466"/>
            </a:gs>
            <a:gs pos="50000">
              <a:srgbClr val="dda927"/>
            </a:gs>
            <a:gs pos="100000">
              <a:srgbClr val="2a74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e inregistreaza o </a:t>
            </a:r>
            <a:r>
              <a:rPr b="0" lang="ro-RO" sz="3200" spc="-1" strike="noStrike" u="sng">
                <a:solidFill>
                  <a:srgbClr val="ffffff"/>
                </a:solidFill>
                <a:uFillTx/>
                <a:latin typeface="Arial"/>
              </a:rPr>
              <a:t>datorie externa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prin cumpararea din import a materiei prime cu Factura 487/08.09.09 in valoare de 1.000 euro la cursul de 4,20 lei/e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ntru grupa nouă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b) se achita datoria din cont cu Ordin de plată 78/28.09.09 in urmatoarele situati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sul valutei 4,50 lei/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rsul valutei 4,10 lei/e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rupa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e inregistreaza o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Arial"/>
              </a:rPr>
              <a:t>creanta extern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prin vanzarea la export de marfuri cu Factura 986/17.09.09 in valoare de 500 euro la cursul 4,20 lei/e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entru grupa nouă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b) se incaseaza creanta prin cont cu Dispoziţia de încasare 56/28.09.09 in urmatoarele situati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ursul valutei 4,50 lei/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cursul valutei 4,10 lei/e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4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68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7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2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33 0.1 0.20267 0.077 0.31733 C -0.015 0.31067 -0.093 0.23067 -0.125 0.12133 C -0.047 0.05333 0.051 0.05733 0.125 0.12133 C 0.092 0.23733 0.011 0.31067 -0.077 0.31733 C -0.101 0.19733 -0.068 0.07467 0 0 Z">
                                      <p:cBhvr>
                                        <p:cTn id="76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e3b7"/>
            </a:gs>
            <a:gs pos="100000">
              <a:srgbClr val="fbe4a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uri fol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ni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z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Debi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lien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Furnizori de imobiliză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ijloace de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TVA deductib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TVA colec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onturi la bănci în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uri la b</a:t>
            </a: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ănci în valut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sconturi obţin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diferenţe de curs valu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amenzi şi penalită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vânzarea mărfuri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prestări de servic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Venituri din vânzarea active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poştale şi telecomunicaţ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cu amenzi şi penalităţ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din diferenţe de curs valu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Cheltuieli privind sconturile acor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Arial"/>
              </a:rPr>
              <a:t>Materii pr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16:56:44Z</dcterms:created>
  <dc:creator>Mada</dc:creator>
  <dc:description/>
  <dc:language>en-US</dc:language>
  <cp:lastModifiedBy>acer</cp:lastModifiedBy>
  <dcterms:modified xsi:type="dcterms:W3CDTF">2009-10-20T15:17:37Z</dcterms:modified>
  <cp:revision>18</cp:revision>
  <dc:subject/>
  <dc:title>Slide 1</dc:title>
</cp:coreProperties>
</file>