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B01-29E0-4A6F-898A-EAA02478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0385-0992-4F39-B535-9A246E47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003-B150-447B-BCAC-1C484641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0B6-0935-4405-B6EC-18B1E1C0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5E5-BA27-4623-ACFC-89180206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6C5-1EB1-4FCE-AE59-766CC070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DB9-9993-4285-B803-5466DB1C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11C-B757-49F3-9E42-C766AD56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741-074E-49B6-9848-667AD554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7BA-365E-47CD-8AC9-5A8BEB31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F163-1814-428A-8146-6D77F4F9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0E4-2106-4DCE-872E-C88B70EF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7DA3-BF17-41B7-AD0F-648A378F4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ontabilitatea datoriilor </a:t>
            </a:r>
            <a:r>
              <a:rPr b="1" lang="ro-RO" sz="5000" spc="-1" strike="noStrike">
                <a:solidFill>
                  <a:srgbClr val="ffffff"/>
                </a:solidFill>
                <a:latin typeface="Arial"/>
              </a:rPr>
              <a:t>şi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crean</a:t>
            </a:r>
            <a:r>
              <a:rPr b="1" lang="ro-RO" sz="5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elor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cc99"/>
                </a:solidFill>
                <a:latin typeface="Arial"/>
              </a:rPr>
              <a:t>Prin “terţi “ înţelegem o persoană (sau mai multe) fizică sau juridică, alta decât agentul economic analizat, cu care acesta întreţine relaţii economice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75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După funcţia contabilă conturile sunt de trei felur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ro-RO" sz="2800" spc="-1" strike="noStrike">
                <a:solidFill>
                  <a:srgbClr val="ffffff"/>
                </a:solidFill>
                <a:latin typeface="Arial"/>
              </a:rPr>
              <a:t>onturi cu funcţia contabilă de ACTIV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ff"/>
                </a:solidFill>
                <a:latin typeface="Arial"/>
              </a:rPr>
              <a:t>Conturi cu funcţia contabilă de PASIV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ff"/>
                </a:solidFill>
                <a:latin typeface="Arial"/>
              </a:rPr>
              <a:t>Mai există conturi BIFUNCŢIONALE care pot avea atât funcţia de “activ” cât şi de “pasiv”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333399"/>
                </a:solidFill>
                <a:latin typeface="Arial"/>
              </a:rPr>
              <a:t>Debitul este partea stângă a contului atât pentru conturile de ACTIV cât şi pentru cele de PASIV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ffff66"/>
                </a:solidFill>
                <a:latin typeface="Arial"/>
              </a:rPr>
              <a:t>Debitul reflectă: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300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ffff66"/>
                </a:solidFill>
                <a:latin typeface="Arial"/>
              </a:rPr>
              <a:t>Pentru conturile de ACTIV: </a:t>
            </a:r>
            <a:r>
              <a:rPr b="1" i="1" lang="ro-RO" sz="3000" spc="-1" strike="noStrike" u="sng">
                <a:solidFill>
                  <a:srgbClr val="ffff66"/>
                </a:solidFill>
                <a:uFillTx/>
                <a:latin typeface="Arial"/>
              </a:rPr>
              <a:t>existentul</a:t>
            </a:r>
            <a:r>
              <a:rPr b="1" i="1" lang="ro-RO" sz="3000" spc="-1" strike="noStrike">
                <a:solidFill>
                  <a:srgbClr val="ffff66"/>
                </a:solidFill>
                <a:latin typeface="Arial"/>
              </a:rPr>
              <a:t> şi </a:t>
            </a:r>
            <a:r>
              <a:rPr b="1" i="1" lang="ro-RO" sz="3000" spc="-1" strike="noStrike" u="sng">
                <a:solidFill>
                  <a:srgbClr val="ffff66"/>
                </a:solidFill>
                <a:uFillTx/>
                <a:latin typeface="Arial"/>
              </a:rPr>
              <a:t>creşteri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300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ffff66"/>
                </a:solidFill>
                <a:latin typeface="Arial"/>
              </a:rPr>
              <a:t>Pentru conturile de PASIV: </a:t>
            </a:r>
            <a:r>
              <a:rPr b="1" i="1" lang="ro-RO" sz="3000" spc="-1" strike="noStrike" u="sng">
                <a:solidFill>
                  <a:srgbClr val="ffff66"/>
                </a:solidFill>
                <a:uFillTx/>
                <a:latin typeface="Arial"/>
              </a:rPr>
              <a:t>micşorări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50"/>
                            </p:stCondLst>
                            <p:childTnLst>
                              <p:par>
                                <p:cTn id="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950"/>
                            </p:stCondLst>
                            <p:childTnLst>
                              <p:par>
                                <p:cTn id="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Funcţionarea conturilor de PASIV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cep să funcţioneze:</a:t>
            </a:r>
            <a:r>
              <a:rPr b="1" lang="ro-RO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prin creditare – se creditează cu soldul iniţial care reflectă existentul valoric la începutul perioadei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 CREDIT:</a:t>
            </a:r>
            <a:r>
              <a:rPr b="1" lang="ro-RO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se înregistrează creşterile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 DEBIT:</a:t>
            </a:r>
            <a:r>
              <a:rPr b="1" lang="ro-RO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se înregistrează scăderile (diminuările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oldul final:</a:t>
            </a:r>
            <a:r>
              <a:rPr b="1" lang="ro-RO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este creditor şi reflectă existentul valoric la sfârşitul perioadei. Se calculează după formula: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SfC = TSC - TSD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8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4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2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Paşii analizei contabile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cc00"/>
                </a:solidFill>
                <a:latin typeface="Arial"/>
              </a:rPr>
              <a:t>Stabilirea naturii şi conţinutului operaţiei care se supune analizei contabile  (la ce se referă operaţia: plată, încasare, etc)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cc00"/>
                </a:solidFill>
                <a:latin typeface="Arial"/>
              </a:rPr>
              <a:t>Precizarea modificărilor pe care le produce operaţia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99cc00"/>
                </a:solidFill>
                <a:latin typeface="Arial"/>
              </a:rPr>
              <a:t>Elementele de activ şi de pasiv care se modific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99cc00"/>
                </a:solidFill>
                <a:latin typeface="Arial"/>
              </a:rPr>
              <a:t>Sensul modificării – creştere sau micşor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99cc00"/>
                </a:solidFill>
                <a:latin typeface="Arial"/>
              </a:rPr>
              <a:t>Conţinutul economic al modificăr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99cc00"/>
                </a:solidFill>
                <a:latin typeface="Arial"/>
              </a:rPr>
              <a:t>Ex: creştere de stocuri, diminuare de disponibil în 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cc00"/>
                </a:solidFill>
                <a:latin typeface="Arial"/>
              </a:rPr>
              <a:t>Stabilirea conturilor corespondente (conturi de aciv, de pasiv sau ambele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cc00"/>
                </a:solidFill>
                <a:latin typeface="Arial"/>
              </a:rPr>
              <a:t>Aplicarea regulilor de funcţionare a conturilor, pentru a stabili ce conturi se debitează şi ce conturi se creditează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65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4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15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8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8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9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16:30:56Z</dcterms:created>
  <dc:creator>Olivia</dc:creator>
  <dc:description/>
  <dc:language>en-US</dc:language>
  <cp:lastModifiedBy>Toth Lehel</cp:lastModifiedBy>
  <dcterms:modified xsi:type="dcterms:W3CDTF">2009-09-14T17:21:58Z</dcterms:modified>
  <cp:revision>43</cp:revision>
  <dc:subject/>
  <dc:title>Miniaturizare sau performanţă?</dc:title>
</cp:coreProperties>
</file>