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011-F3A0-40B7-9A81-B24B8CE5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6B-1BE4-47E8-9E59-95FB4E35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C87-01BA-4EF1-9157-5910E576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8511-C2D4-440D-96EC-0E3B636B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E8C-3C11-4C51-BE32-38FE8F01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71EB-1CB9-4072-9C11-3D71787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D7B-05B0-41F1-85FC-FD56716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356-6A0A-43F5-BDC4-681686B4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CB7-52AB-4522-A479-CAA53835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B99-51AA-4002-BB83-6CA0E2A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B6E-38E5-4076-898E-FA10632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A2E-70A0-4957-898B-23D227F6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F5B-59FB-4CA7-AA8F-3AC51946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ontabilitatea datoriilor 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şi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crean</a:t>
            </a:r>
            <a:r>
              <a:rPr b="1" lang="ro-RO" sz="50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elo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cc99"/>
                </a:solidFill>
                <a:latin typeface="Arial"/>
              </a:rPr>
              <a:t>Prin “terţi “ înţelegem o persoană (sau mai multe) fizică sau juridică, alta decât agentul economic analizat, cu care acesta întreţine relaţii economice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7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După funcţia contabilă conturile sunt de trei feluri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onturi cu funcţia contabilă de ACTIV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Conturi cu funcţia contabilă de PASIV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ffff"/>
                </a:solidFill>
                <a:latin typeface="Arial"/>
              </a:rPr>
              <a:t>Mai există conturi BIFUNCŢIONALE care pot avea atât funcţia de “activ” cât şi de “pasiv”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333399"/>
                </a:solidFill>
                <a:latin typeface="Arial"/>
              </a:rPr>
              <a:t>Debitul este partea stângă a contului atât pentru conturile de ACTIV cât şi pentru cele de PASIV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Debitul reflectă: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ACT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existentul</a:t>
            </a: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 şi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creşte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ffff66"/>
                </a:solidFill>
                <a:latin typeface="Arial"/>
              </a:rPr>
              <a:t>Pentru conturile de PASIV: </a:t>
            </a:r>
            <a:r>
              <a:rPr b="1" i="1" lang="ro-RO" sz="3000" spc="-1" strike="noStrike" u="sng">
                <a:solidFill>
                  <a:srgbClr val="ffff66"/>
                </a:solidFill>
                <a:uFillTx/>
                <a:latin typeface="Arial"/>
              </a:rPr>
              <a:t>micşorările</a:t>
            </a:r>
            <a:endParaRPr b="1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5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50"/>
                            </p:stCondLst>
                            <p:childTnLst>
                              <p:par>
                                <p:cTn id="7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Funcţionarea conturilor de PASIV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cep să funcţioneze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prin creditare – se creditează cu soldul iniţial care reflectă existentul valoric la începutul perioadei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CREDIT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creşteril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În DEBIT:</a:t>
            </a:r>
            <a:r>
              <a:rPr b="1" lang="ro-RO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e înregistrează scăderile (diminuările)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oldul final:</a:t>
            </a:r>
            <a:r>
              <a:rPr b="1" lang="ro-RO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este creditor şi reflectă existentul valoric la sfârşitul perioadei. Se calculează după formula: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66"/>
                </a:solidFill>
                <a:latin typeface="Arial"/>
              </a:rPr>
              <a:t>SfC = TSC - TSD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8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4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2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aşii analizei contabile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naturii şi conţinutului operaţiei care se supune analizei contabile  (la ce se referă operaţia: plată, încasare, etc)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Precizarea modificărilor pe care le produce operaţia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lementele de activ şi de pasiv care se modif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Sensul modificării – creştere sau micşo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Conţinutul economic al modifică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99cc00"/>
                </a:solidFill>
                <a:latin typeface="Arial"/>
              </a:rPr>
              <a:t>Ex: creştere de stocuri, diminuare de disponibil în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Stabilirea conturilor corespondente (conturi de aciv, de pasiv sau ambele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cc00"/>
                </a:solidFill>
                <a:latin typeface="Arial"/>
              </a:rPr>
              <a:t>Aplicarea regulilor de funcţionare a conturilor, pentru a stabili ce conturi se debitează şi ce conturi se creditează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65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40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615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8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8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9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16:30:56Z</dcterms:created>
  <dc:creator>Olivia</dc:creator>
  <dc:description/>
  <dc:language>en-US</dc:language>
  <cp:lastModifiedBy>Toth Lehel</cp:lastModifiedBy>
  <dcterms:modified xsi:type="dcterms:W3CDTF">2009-09-14T17:21:58Z</dcterms:modified>
  <cp:revision>43</cp:revision>
  <dc:subject/>
  <dc:title>Miniaturizare sau performanţă?</dc:title>
</cp:coreProperties>
</file>